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BD4D-C0C4-4C70-9833-E5F991B9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5486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440" y="2761920"/>
            <a:ext cx="5486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070-EF07-4CDE-AAB4-F32BD1EC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440" y="27619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3680" y="27619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A49-26B6-48B9-8E5C-58A49EBB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160" y="6127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02240" y="6127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440" y="27619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160" y="27619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02240" y="27619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C12-EC71-43BC-B79E-4C7AF60F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A0CD-9DC7-441E-9F3D-0AECB362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92440" y="61272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7745-415F-44F8-956A-1674EEF2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6DF4-0547-4862-8E04-5D66F7C4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E2EC-39A6-4C72-86CA-2BF8A9D9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A7A2-E3DF-45B2-AA41-13D6CDF8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440" y="4800600"/>
            <a:ext cx="5486040" cy="26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18BA-1BFE-4805-815C-2DE655FA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92440" y="27619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6E03-CE9B-4A83-A082-33276EE8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440" y="61272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BE7-F3A2-4F61-A9DC-035024E7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3680" y="27619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5414-A7E8-420F-A774-41D82A34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92440" y="2761920"/>
            <a:ext cx="5486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DC3A-F363-4AA2-8100-73B7EED0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5486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792440" y="2761920"/>
            <a:ext cx="5486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F760-9141-4B08-A691-F17E0913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92440" y="27619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03680" y="27619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EE99-2653-47E0-9199-8C8CBDAB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7160" y="6127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02240" y="6127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792440" y="27619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7160" y="27619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02240" y="27619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67A1-905C-424B-8A1D-0D5830F3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83662-1E14-498E-AF35-A9D634C2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92440" y="61272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82FFE-3435-40CD-BB4A-6E4349E3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9AE51-91FB-4698-9C37-FA1815BD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A7FEB-E307-4C81-B4CA-8F369009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A3105-BBDC-421E-B542-8C787B32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462-C30D-4373-8EA8-3EE11929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792440" y="4800600"/>
            <a:ext cx="5486040" cy="26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86035-C01F-40AD-8E95-9903F384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792440" y="27619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CE02B-E9FA-4406-9CBB-ECC217F4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03680" y="27619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2B201-9B77-4377-8DE5-120534E8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92440" y="2761920"/>
            <a:ext cx="5486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345AF-C31E-4840-A2AD-24B62FD2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5486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792440" y="2761920"/>
            <a:ext cx="5486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1BCEB-C019-46DB-A4C4-00D221DC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792440" y="27619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03680" y="27619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27802-D994-41BE-AC64-212E24D9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47160" y="6127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502240" y="6127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792440" y="27619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47160" y="27619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502240" y="27619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D6DA1-0FF3-4442-876C-20A1DDE6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E3CBB-45FA-4C8C-A661-03A431B5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792440" y="61272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FEACF-5C32-465E-9ECD-34EE6CD0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83E59-284D-4716-AC31-D3132576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FD2-3A18-4F41-87E1-5BCF0CB2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4B661-D80C-4B84-94ED-F80E766E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F9AEA-A633-49ED-922A-7DB0D633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792440" y="4800600"/>
            <a:ext cx="5486040" cy="26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5C4B2-F8EB-476C-B1CA-1F8AF793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792440" y="27619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9B0C9-3721-4CD8-87A1-F7361915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03680" y="27619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54ED7-8AE6-4292-B7AB-E42954F4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792440" y="2761920"/>
            <a:ext cx="5486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FBA5B-719A-4EA5-96DD-F83A4D23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5486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792440" y="2761920"/>
            <a:ext cx="5486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C1E1F-AF75-4579-8E04-BCDFCB21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792440" y="27619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03680" y="27619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47D1B-5CE7-46BF-97C1-D4147B54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47160" y="6127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502240" y="6127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792440" y="27619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47160" y="27619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502240" y="27619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3867C-7C6D-4646-9C2A-64D6126D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42240-8119-4438-8180-88CB09B2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5D9-CEE2-48E5-9E5E-68E02CF7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792440" y="61272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E8C87-A0EB-41D3-A63E-BEEA86A3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EC7B2-BF7F-4B99-A786-8A173E65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B1514-8FF5-4196-8448-47BD926C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A2B43-3245-4C9F-9690-16FF60D0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792440" y="4800600"/>
            <a:ext cx="5486040" cy="26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3BE30-E50D-4973-82C9-7BAF0145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792440" y="27619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92159-F336-4C6E-9347-35E99976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03680" y="27619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D57EA-AB96-4D5B-BF59-725869C9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92440" y="2761920"/>
            <a:ext cx="5486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3B41F-8C33-495D-B81D-7EE2A4C4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5486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792440" y="2761920"/>
            <a:ext cx="5486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AED6C-A13E-4D08-A19E-B1C5DC8C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792440" y="27619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03680" y="27619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AC71F-15A3-4F46-B80C-CF8321BC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440" y="4800600"/>
            <a:ext cx="5486040" cy="26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28F-8E3B-4A2C-9141-A288864A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47160" y="6127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502240" y="6127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792440" y="27619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47160" y="27619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502240" y="2761920"/>
            <a:ext cx="17661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3A16F-589C-486E-A22C-76DF6D7C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440" y="27619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45C-24FF-49A8-ABC6-A8A39B01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3680" y="27619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7149-C5BB-4476-B196-24E1E5E5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44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3680" y="612720"/>
            <a:ext cx="2676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440" y="2761920"/>
            <a:ext cx="5486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1930-8C81-4126-AED9-D9EAE240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58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440" y="61272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авка рисун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792440" y="5367240"/>
            <a:ext cx="5486040" cy="804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6A7DE9-D181-4EAC-9192-C2FD5C74FC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58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5633ED-E98A-417B-BB6C-7412E4F3B8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58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AAE275-C9DD-486B-99E5-ED69E825FF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58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8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41CAD8-EC79-45AF-8C04-CD7466BAAB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58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7A0126-0FCF-4710-9335-30238CD5BF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C:/Users/&#1053;&#1072;&#1095;&#1072;&#1083;&#1100;&#1085;&#1072;&#1103;%20&#1096;&#1082;&#1086;&#1083;&#1072;/Desktop/&#1048;&#1075;&#1086;&#1088;&#1100;_&#1050;&#1088;&#1091;&#1090;&#1086;&#1081;_-_&#1048;&#1085;&#1089;&#1090;&#1088;&#1091;&#1084;&#1077;&#1085;&#1090;&#1072;&#1083;&#1100;&#1085;&#1072;&#1103;_&#1082;&#1086;&#1084;&#1087;&#1086;&#1079;&#1080;&#1094;&#1080;&#1103;_(6-37)(www.muzico.ru).mp3" TargetMode="External"/><Relationship Id="rId3" Type="http://schemas.microsoft.com/office/2007/relationships/media" Target="file:///C:/Users/&#1053;&#1072;&#1095;&#1072;&#1083;&#1100;&#1085;&#1072;&#1103;%20&#1096;&#1082;&#1086;&#1083;&#1072;/Desktop/&#1048;&#1075;&#1086;&#1088;&#1100;_&#1050;&#1088;&#1091;&#1090;&#1086;&#1081;_-_&#1048;&#1085;&#1089;&#1090;&#1088;&#1091;&#1084;&#1077;&#1085;&#1090;&#1072;&#1083;&#1100;&#1085;&#1072;&#1103;_&#1082;&#1086;&#1084;&#1087;&#1086;&#1079;&#1080;&#1094;&#1080;&#1103;_(6-37)(www.muzico.ru).mp3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audio" Target="file:///C:/Users/&#1053;&#1072;&#1095;&#1072;&#1083;&#1100;&#1085;&#1072;&#1103;%20&#1096;&#1082;&#1086;&#1083;&#1072;/Desktop/&#1048;&#1075;&#1086;&#1088;&#1100;_&#1050;&#1088;&#1091;&#1090;&#1086;&#1081;_-_&#1048;&#1085;&#1089;&#1090;&#1088;&#1091;&#1084;&#1077;&#1085;&#1090;&#1072;&#1083;&#1100;&#1085;&#1072;&#1103;_&#1082;&#1086;&#1084;&#1087;&#1086;&#1079;&#1080;&#1094;&#1080;&#1103;_(6-37)(www.muzico.ru).mp3" TargetMode="External"/><Relationship Id="rId8" Type="http://schemas.microsoft.com/office/2007/relationships/media" Target="file:///C:/Users/&#1053;&#1072;&#1095;&#1072;&#1083;&#1100;&#1085;&#1072;&#1103;%20&#1096;&#1082;&#1086;&#1083;&#1072;/Desktop/&#1048;&#1075;&#1086;&#1088;&#1100;_&#1050;&#1088;&#1091;&#1090;&#1086;&#1081;_-_&#1048;&#1085;&#1089;&#1090;&#1088;&#1091;&#1084;&#1077;&#1085;&#1090;&#1072;&#1083;&#1100;&#1085;&#1072;&#1103;_&#1082;&#1086;&#1084;&#1087;&#1086;&#1079;&#1080;&#1094;&#1080;&#1103;_(6-37)(www.muzico.ru).mp3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C:/Users/&#1053;&#1072;&#1095;&#1072;&#1083;&#1100;&#1085;&#1072;&#1103;%20&#1096;&#1082;&#1086;&#1083;&#1072;/Desktop/&#1048;&#1075;&#1086;&#1088;&#1100;_&#1050;&#1088;&#1091;&#1090;&#1086;&#1081;_-_&#1048;&#1085;&#1089;&#1090;&#1088;&#1091;&#1084;&#1077;&#1085;&#1090;&#1072;&#1083;&#1100;&#1085;&#1072;&#1103;_&#1082;&#1086;&#1084;&#1087;&#1086;&#1079;&#1080;&#1094;&#1080;&#1103;_(6-37)(www.muzico.ru).mp3" TargetMode="External"/><Relationship Id="rId3" Type="http://schemas.microsoft.com/office/2007/relationships/media" Target="file:///C:/Users/&#1053;&#1072;&#1095;&#1072;&#1083;&#1100;&#1085;&#1072;&#1103;%20&#1096;&#1082;&#1086;&#1083;&#1072;/Desktop/&#1048;&#1075;&#1086;&#1088;&#1100;_&#1050;&#1088;&#1091;&#1090;&#1086;&#1081;_-_&#1048;&#1085;&#1089;&#1090;&#1088;&#1091;&#1084;&#1077;&#1085;&#1090;&#1072;&#1083;&#1100;&#1085;&#1072;&#1103;_&#1082;&#1086;&#1084;&#1087;&#1086;&#1079;&#1080;&#1094;&#1080;&#1103;_(6-37)(www.muzico.ru).mp3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file:///C:/Users/&#1044;&#1086;&#1084;/Desktop/&#1055;&#1086;&#1076;&#1077;&#1083;&#1080;&#1089;&#1100;%20&#1089;&#1074;&#1086;&#1077;&#1081;%20&#1076;&#1086;&#1073;&#1088;&#1086;&#1090;&#1086;&#1081;/Minusovki.MpTri.Net%20detskie_-_esli_dobriy_ti.mp3" TargetMode="External"/><Relationship Id="rId4" Type="http://schemas.microsoft.com/office/2007/relationships/media" Target="file:///C:/Users/&#1044;&#1086;&#1084;/Desktop/&#1055;&#1086;&#1076;&#1077;&#1083;&#1080;&#1089;&#1100;%20&#1089;&#1074;&#1086;&#1077;&#1081;%20&#1076;&#1086;&#1073;&#1088;&#1086;&#1090;&#1086;&#1081;/Minusovki.MpTri.Net%20detskie_-_esli_dobriy_ti.mp3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C:/Users/&#1044;&#1086;&#1084;/Desktop/&#1055;&#1086;&#1076;&#1077;&#1083;&#1080;&#1089;&#1100;%20&#1089;&#1074;&#1086;&#1077;&#1081;%20&#1076;&#1086;&#1073;&#1088;&#1086;&#1090;&#1086;&#1081;/013_doroga_dobra.mp3" TargetMode="External"/><Relationship Id="rId2" Type="http://schemas.microsoft.com/office/2007/relationships/media" Target="file:///C:/Users/&#1044;&#1086;&#1084;/Desktop/&#1055;&#1086;&#1076;&#1077;&#1083;&#1080;&#1089;&#1100;%20&#1089;&#1074;&#1086;&#1077;&#1081;%20&#1076;&#1086;&#1073;&#1088;&#1086;&#1090;&#1086;&#1081;/013_doroga_dobra.mp3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C:/Users/&#1044;&#1086;&#1084;/Desktop/&#1055;&#1086;&#1076;&#1077;&#1083;&#1080;&#1089;&#1100;%20&#1089;&#1074;&#1086;&#1077;&#1081;%20&#1076;&#1086;&#1073;&#1088;&#1086;&#1090;&#1086;&#1081;/&#1053;&#1072;&#1089;&#1090;&#1086;&#1103;&#1097;&#1080;&#1081;%20&#1076;&#1088;&#1091;&#1075;.mp3" TargetMode="External"/><Relationship Id="rId3" Type="http://schemas.microsoft.com/office/2007/relationships/media" Target="file:///C:/Users/&#1044;&#1086;&#1084;/Desktop/&#1055;&#1086;&#1076;&#1077;&#1083;&#1080;&#1089;&#1100;%20&#1089;&#1074;&#1086;&#1077;&#1081;%20&#1076;&#1086;&#1073;&#1088;&#1086;&#1090;&#1086;&#1081;/&#1053;&#1072;&#1089;&#1090;&#1086;&#1103;&#1097;&#1080;&#1081;%20&#1076;&#1088;&#1091;&#1075;.mp3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Содержимое 5" descr="https://ds04.infourok.ru/uploads/ex/0769/000fd260-d700debf/img3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143160" y="4929120"/>
            <a:ext cx="557172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ла учитель начальных классов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Колобовская средняя школа»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врина Любовь Юрьевн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Переулок добрых поступков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57120" y="1600200"/>
            <a:ext cx="6714720" cy="525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Я очень люблю свою бабушку, которая живет за лесом. Я забочусь о ней, и часто ношу ей пирожки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Я в трудную минуту всегда рядом со своим хозяином. Ради его счастья мне пришлось с Людоедом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бы спасти любимого отца, я отправилась на остров к Чудовищу, хозяину аленького цветочка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Я, несмотря на свой рост в дюйм, спасла ласточку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215040" y="3857760"/>
            <a:ext cx="1399680" cy="10472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7886880" y="2357280"/>
            <a:ext cx="1257120" cy="13712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57" name="Picture 6" descr=""/>
          <p:cNvPicPr/>
          <p:nvPr/>
        </p:nvPicPr>
        <p:blipFill>
          <a:blip r:embed="rId3"/>
          <a:stretch/>
        </p:blipFill>
        <p:spPr>
          <a:xfrm>
            <a:off x="7929720" y="4446360"/>
            <a:ext cx="1213920" cy="17683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Улица  Добрых  сердец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257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то в дружбу верит горячо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то друга чувствует плечо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от никогда не упадет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любой беде не пропадёт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ы добрых слов не пожалей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изнеси их для друзей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7054920" y="4572000"/>
            <a:ext cx="2088720" cy="2071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05c00"/>
                </a:solidFill>
                <a:latin typeface="Arial"/>
              </a:rPr>
              <a:t>Ларец  добродетелей 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C:\Users\Начальная школа\Desktop\1311423490.jpg"/>
          <p:cNvPicPr/>
          <p:nvPr/>
        </p:nvPicPr>
        <p:blipFill>
          <a:blip r:embed="rId1"/>
          <a:stretch/>
        </p:blipFill>
        <p:spPr>
          <a:xfrm>
            <a:off x="1285920" y="1500120"/>
            <a:ext cx="7000560" cy="5357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" descr="C:\Users\Начальная школа\Desktop\баб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28760" y="357120"/>
            <a:ext cx="8229240" cy="192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70c0"/>
              </a:buClr>
              <a:buFont typeface="Symbol" charset="2"/>
              <a:buChar char=""/>
            </a:pPr>
            <a:r>
              <a:rPr b="1" i="1" lang="ru-RU" sz="4800" spc="-1" strike="noStrike">
                <a:solidFill>
                  <a:srgbClr val="0070c0"/>
                </a:solidFill>
                <a:latin typeface="Arial"/>
              </a:rPr>
              <a:t>ВСЁ   В   ТВОИХ   РУКАХ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58080" y="59292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" descr="C:\Users\Начальная школа\Desktop\баб.jpg"/>
          <p:cNvPicPr/>
          <p:nvPr/>
        </p:nvPicPr>
        <p:blipFill>
          <a:blip r:embed="rId5"/>
          <a:stretch/>
        </p:blipFill>
        <p:spPr>
          <a:xfrm>
            <a:off x="152280" y="15228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" descr="C:\Users\Начальная школа\Desktop\баб.jpg"/>
          <p:cNvPicPr/>
          <p:nvPr/>
        </p:nvPicPr>
        <p:blipFill>
          <a:blip r:embed="rId6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35812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restart="whenNotActive" nodeType="interactiveSeq" fill="hold">
                <p:stCondLst>
                  <p:cond delay="0" evt="onClick">
                    <p:tgtEl>
                      <p:spTgt spid="266"/>
                    </p:tgtEl>
                  </p:cond>
                </p:stCondLst>
                <p:childTnLst>
                  <p:par>
                    <p:cTn id="305" fill="hold">
                      <p:stCondLst>
                        <p:cond delay="0"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39725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delay="0" evt="onClick">
                    <p:tgtEl>
                      <p:spTgt spid="269"/>
                    </p:tgtEl>
                  </p:cond>
                </p:stCondLst>
                <p:childTnLst>
                  <p:par>
                    <p:cTn id="310" fill="hold">
                      <p:stCondLst>
                        <p:cond delay="0"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39725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" descr="C:\Users\Начальная школа\Desktop\баб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28760" y="357120"/>
            <a:ext cx="8229240" cy="192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70c0"/>
              </a:buClr>
              <a:buFont typeface="Symbol" charset="2"/>
              <a:buChar char=""/>
            </a:pPr>
            <a:r>
              <a:rPr b="1" i="1" lang="ru-RU" sz="4800" spc="-1" strike="noStrike">
                <a:solidFill>
                  <a:srgbClr val="0070c0"/>
                </a:solidFill>
                <a:latin typeface="Arial"/>
              </a:rPr>
              <a:t>ВСЁ   В   ТВОИХ   РУКАХ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58080" y="59292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" descr="C:\Users\Начальная школа\Desktop\баб.jpg"/>
          <p:cNvPicPr/>
          <p:nvPr/>
        </p:nvPicPr>
        <p:blipFill>
          <a:blip r:embed="rId5"/>
          <a:stretch/>
        </p:blipFill>
        <p:spPr>
          <a:xfrm>
            <a:off x="152280" y="15228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" descr="C:\Users\Начальная школа\Desktop\баб.jpg"/>
          <p:cNvPicPr/>
          <p:nvPr/>
        </p:nvPicPr>
        <p:blipFill>
          <a:blip r:embed="rId6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restart="whenNotActive" nodeType="interactiveSeq" fill="hold">
                <p:stCondLst>
                  <p:cond delay="0" evt="onClick">
                    <p:tgtEl>
                      <p:spTgt spid="273"/>
                    </p:tgtEl>
                  </p:cond>
                </p:stCondLst>
                <p:childTnLst>
                  <p:par>
                    <p:cTn id="316" fill="hold">
                      <p:stCondLst>
                        <p:cond delay="0"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397251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1471680"/>
            <a:ext cx="5270040" cy="158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Дождик босиком по земле прошёл,</a:t>
            </a:r>
            <a:r>
              <a:rPr b="0" lang="en-US" sz="2400" spc="-1" strike="noStrike">
                <a:solidFill>
                  <a:srgbClr val="002060"/>
                </a:solidFill>
                <a:latin typeface="Arial Narrow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Клёны по плечам хлопал,</a:t>
            </a:r>
            <a:r>
              <a:rPr b="0" lang="en-US" sz="2400" spc="-1" strike="noStrike">
                <a:solidFill>
                  <a:srgbClr val="002060"/>
                </a:solidFill>
                <a:latin typeface="Arial Narrow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Если ясный день - это хорошо,</a:t>
            </a:r>
            <a:r>
              <a:rPr b="0" lang="en-US" sz="2400" spc="-1" strike="noStrike">
                <a:solidFill>
                  <a:srgbClr val="002060"/>
                </a:solidFill>
                <a:latin typeface="Arial Narrow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А когда наоборот - плохо.</a:t>
            </a:r>
            <a:r>
              <a:rPr b="0" lang="en-US" sz="2400" spc="-1" strike="noStrike">
                <a:solidFill>
                  <a:srgbClr val="002060"/>
                </a:solidFill>
                <a:latin typeface="Arial Narrow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Рисунок 5" descr=""/>
          <p:cNvPicPr/>
          <p:nvPr/>
        </p:nvPicPr>
        <p:blipFill>
          <a:blip r:embed="rId1"/>
          <a:stretch/>
        </p:blipFill>
        <p:spPr>
          <a:xfrm>
            <a:off x="15840" y="3398760"/>
            <a:ext cx="5508360" cy="3373200"/>
          </a:xfrm>
          <a:prstGeom prst="rect">
            <a:avLst/>
          </a:prstGeom>
          <a:ln w="9525">
            <a:solidFill>
              <a:srgbClr val="002060"/>
            </a:solidFill>
            <a:miter/>
          </a:ln>
        </p:spPr>
      </p:pic>
      <p:pic>
        <p:nvPicPr>
          <p:cNvPr id="278" name="Picture 2" descr="C:\Users\Самсоновы\Desktop\кар\солнце.jpg"/>
          <p:cNvPicPr/>
          <p:nvPr/>
        </p:nvPicPr>
        <p:blipFill>
          <a:blip r:embed="rId2"/>
          <a:stretch/>
        </p:blipFill>
        <p:spPr>
          <a:xfrm>
            <a:off x="4430880" y="176040"/>
            <a:ext cx="4608000" cy="3220560"/>
          </a:xfrm>
          <a:prstGeom prst="rect">
            <a:avLst/>
          </a:prstGeom>
          <a:ln w="9525">
            <a:solidFill>
              <a:srgbClr val="002060"/>
            </a:solidFill>
            <a:miter/>
          </a:ln>
        </p:spPr>
      </p:pic>
      <p:pic>
        <p:nvPicPr>
          <p:cNvPr id="27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50104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1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mph" presetID="16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4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29" dur="4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30" dur="4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3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6" presetSubtype="3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6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4000" y="3141720"/>
            <a:ext cx="4392360" cy="14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00efc"/>
                </a:solidFill>
                <a:latin typeface="Arial Narrow"/>
              </a:rPr>
              <a:t>Слышно как звенят в небе высоко</a:t>
            </a:r>
            <a:r>
              <a:rPr b="0" lang="en-US" sz="2400" spc="-1" strike="noStrike">
                <a:solidFill>
                  <a:srgbClr val="300efc"/>
                </a:solidFill>
                <a:latin typeface="Arial Narrow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300efc"/>
                </a:solidFill>
                <a:latin typeface="Arial Narrow"/>
              </a:rPr>
              <a:t>Солнечных лучей струны,</a:t>
            </a:r>
            <a:r>
              <a:rPr b="0" lang="en-US" sz="2400" spc="-1" strike="noStrike">
                <a:solidFill>
                  <a:srgbClr val="300efc"/>
                </a:solidFill>
                <a:latin typeface="Arial Narrow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300efc"/>
                </a:solidFill>
                <a:latin typeface="Arial Narrow"/>
              </a:rPr>
              <a:t>Если добрый ты, то всегда легко,</a:t>
            </a:r>
            <a:r>
              <a:rPr b="0" lang="en-US" sz="2400" spc="-1" strike="noStrike">
                <a:solidFill>
                  <a:srgbClr val="300efc"/>
                </a:solidFill>
                <a:latin typeface="Arial Narrow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300efc"/>
                </a:solidFill>
                <a:latin typeface="Arial Narrow"/>
              </a:rPr>
              <a:t>А когда наоборот - трудно.</a:t>
            </a:r>
            <a:r>
              <a:rPr b="0" lang="en-US" sz="2400" spc="-1" strike="noStrike">
                <a:solidFill>
                  <a:srgbClr val="300efc"/>
                </a:solidFill>
                <a:latin typeface="Arial Narrow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4149360" cy="3112560"/>
          </a:xfrm>
          <a:prstGeom prst="rect">
            <a:avLst/>
          </a:prstGeom>
          <a:ln w="0">
            <a:solidFill>
              <a:srgbClr val="0070c0"/>
            </a:solidFill>
          </a:ln>
        </p:spPr>
      </p:pic>
      <p:pic>
        <p:nvPicPr>
          <p:cNvPr id="282" name="Picture 2" descr="C:\Users\Самсоновы\Desktop\кар\д2.jpg"/>
          <p:cNvPicPr/>
          <p:nvPr/>
        </p:nvPicPr>
        <p:blipFill>
          <a:blip r:embed="rId2"/>
          <a:stretch/>
        </p:blipFill>
        <p:spPr>
          <a:xfrm>
            <a:off x="6116760" y="260280"/>
            <a:ext cx="2808000" cy="355896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  <p:pic>
        <p:nvPicPr>
          <p:cNvPr id="283" name="Picture 3" descr="C:\Users\Самсоновы\Desktop\кар\д12.jpg"/>
          <p:cNvPicPr/>
          <p:nvPr/>
        </p:nvPicPr>
        <p:blipFill>
          <a:blip r:embed="rId3"/>
          <a:stretch/>
        </p:blipFill>
        <p:spPr>
          <a:xfrm>
            <a:off x="3801960" y="4387680"/>
            <a:ext cx="3685680" cy="246996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4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3" dur="4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4" dur="4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7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6" presetSubtype="3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0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6" presetSubtype="32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3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Рисунок 4" descr=""/>
          <p:cNvPicPr/>
          <p:nvPr/>
        </p:nvPicPr>
        <p:blipFill>
          <a:blip r:embed="rId1"/>
          <a:stretch/>
        </p:blipFill>
        <p:spPr>
          <a:xfrm>
            <a:off x="650880" y="4589640"/>
            <a:ext cx="2652480" cy="1987200"/>
          </a:xfrm>
          <a:prstGeom prst="rect">
            <a:avLst/>
          </a:prstGeom>
          <a:ln w="0">
            <a:solidFill>
              <a:srgbClr val="0070c0"/>
            </a:solidFill>
          </a:ln>
        </p:spPr>
      </p:pic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2266920" y="2924280"/>
            <a:ext cx="5409720" cy="2058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00efc"/>
                </a:solidFill>
                <a:latin typeface="Arial Narrow"/>
              </a:rPr>
              <a:t>С каждым поделись радостью своей,</a:t>
            </a:r>
            <a:r>
              <a:rPr b="0" lang="en-US" sz="2400" spc="-1" strike="noStrike">
                <a:solidFill>
                  <a:srgbClr val="300efc"/>
                </a:solidFill>
                <a:latin typeface="Arial Narrow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300efc"/>
                </a:solidFill>
                <a:latin typeface="Arial Narrow"/>
              </a:rPr>
              <a:t>Рассыпая смех звучно,</a:t>
            </a:r>
            <a:r>
              <a:rPr b="0" lang="en-US" sz="2400" spc="-1" strike="noStrike">
                <a:solidFill>
                  <a:srgbClr val="300efc"/>
                </a:solidFill>
                <a:latin typeface="Arial Narrow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300efc"/>
                </a:solidFill>
                <a:latin typeface="Arial Narrow"/>
              </a:rPr>
              <a:t>Если песни петь, с ними веселей,</a:t>
            </a:r>
            <a:r>
              <a:rPr b="0" lang="en-US" sz="2400" spc="-1" strike="noStrike">
                <a:solidFill>
                  <a:srgbClr val="300efc"/>
                </a:solidFill>
                <a:latin typeface="Arial Narrow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300efc"/>
                </a:solidFill>
                <a:latin typeface="Arial Narrow"/>
              </a:rPr>
              <a:t>А когда наоборот - скучно.</a:t>
            </a:r>
            <a:r>
              <a:rPr b="0" lang="en-US" sz="2400" spc="-1" strike="noStrike">
                <a:solidFill>
                  <a:srgbClr val="300efc"/>
                </a:solidFill>
                <a:latin typeface="Arial Narrow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Рисунок 6" descr=""/>
          <p:cNvPicPr/>
          <p:nvPr/>
        </p:nvPicPr>
        <p:blipFill>
          <a:blip r:embed="rId2"/>
          <a:stretch/>
        </p:blipFill>
        <p:spPr>
          <a:xfrm>
            <a:off x="4938840" y="4508640"/>
            <a:ext cx="3416040" cy="206172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  <p:pic>
        <p:nvPicPr>
          <p:cNvPr id="287" name="Picture 7" descr="C:\Users\Самсоновы\Desktop\кар\д24.jpg"/>
          <p:cNvPicPr/>
          <p:nvPr/>
        </p:nvPicPr>
        <p:blipFill>
          <a:blip r:embed="rId3"/>
          <a:stretch/>
        </p:blipFill>
        <p:spPr>
          <a:xfrm>
            <a:off x="900000" y="157320"/>
            <a:ext cx="2403000" cy="2499840"/>
          </a:xfrm>
          <a:prstGeom prst="rect">
            <a:avLst/>
          </a:prstGeom>
          <a:ln w="9525">
            <a:solidFill>
              <a:srgbClr val="0070c0"/>
            </a:solidFill>
            <a:miter/>
          </a:ln>
        </p:spPr>
      </p:pic>
      <p:pic>
        <p:nvPicPr>
          <p:cNvPr id="288" name="Picture 9" descr="Картинка 7 из 4473"/>
          <p:cNvPicPr/>
          <p:nvPr/>
        </p:nvPicPr>
        <p:blipFill>
          <a:blip r:embed="rId4"/>
          <a:stretch/>
        </p:blipFill>
        <p:spPr>
          <a:xfrm>
            <a:off x="4788000" y="201600"/>
            <a:ext cx="3566880" cy="2379240"/>
          </a:xfrm>
          <a:prstGeom prst="rect">
            <a:avLst/>
          </a:prstGeom>
          <a:ln w="9525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4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60" dur="4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61" dur="4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4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6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7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6" presetSubtype="3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0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6" presetSubtype="32">
                                  <p:stCondLst>
                                    <p:cond delay="1025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3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040" cy="804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https://ds04.infourok.ru/uploads/ex/0c25/000c4124-ac15a1d1/img1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85840" y="428760"/>
            <a:ext cx="6786360" cy="5357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920000"/>
                </a:solidFill>
                <a:latin typeface="Arial"/>
              </a:rPr>
              <a:t>В жизни по-разному можно жить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920000"/>
                </a:solidFill>
                <a:latin typeface="Arial"/>
              </a:rPr>
              <a:t>Можно в беде, а можно – в рад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920000"/>
                </a:solidFill>
                <a:latin typeface="Arial"/>
              </a:rPr>
              <a:t>Вовремя есть, вовремя п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920000"/>
                </a:solidFill>
                <a:latin typeface="Arial"/>
              </a:rPr>
              <a:t>Вовремя делать гад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920000"/>
                </a:solidFill>
                <a:latin typeface="Arial"/>
              </a:rPr>
              <a:t>А можно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920000"/>
                </a:solidFill>
                <a:latin typeface="Arial"/>
              </a:rPr>
              <a:t>На рассвете встать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920000"/>
                </a:solidFill>
                <a:latin typeface="Arial"/>
              </a:rPr>
              <a:t>И, помышляя о чуд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920000"/>
                </a:solidFill>
                <a:latin typeface="Arial"/>
              </a:rPr>
              <a:t>Рукой обожженною солнце дос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7a0000"/>
                </a:solidFill>
                <a:latin typeface="Arial"/>
              </a:rPr>
              <a:t>И подарить его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6905880" y="357120"/>
            <a:ext cx="2237760" cy="22190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" strike="noStrike">
                <a:solidFill>
                  <a:schemeClr val="accent2"/>
                </a:solidFill>
                <a:latin typeface="Arial"/>
              </a:rPr>
              <a:t>«</a:t>
            </a:r>
            <a:r>
              <a:rPr b="1" lang="ru-RU" sz="5400" spc="-1" strike="noStrike">
                <a:solidFill>
                  <a:schemeClr val="accent2"/>
                </a:solidFill>
                <a:latin typeface="Arial Narrow"/>
              </a:rPr>
              <a:t>ДОБРОТА – отзывчивость, душевное расположение к людям, стремление делать добро другим»</a:t>
            </a:r>
            <a:br>
              <a:rPr sz="4600"/>
            </a:br>
            <a:r>
              <a:rPr b="0" lang="ru-RU" sz="4600" spc="-1" strike="noStrike">
                <a:solidFill>
                  <a:schemeClr val="accent2"/>
                </a:solidFill>
                <a:latin typeface="Arial Narrow"/>
              </a:rPr>
              <a:t>                                       С.И. Ожегов</a:t>
            </a: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14200" y="6215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216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9047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571760" y="500040"/>
            <a:ext cx="596880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ru-RU" sz="5400" spc="-1" strike="noStrike" u="sng">
                <a:solidFill>
                  <a:srgbClr val="ff3737"/>
                </a:solidFill>
                <a:uFillTx/>
                <a:latin typeface="Arial"/>
              </a:rPr>
              <a:t>Планета  Добр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Содержимое 5" descr="listing18.jpg"/>
          <p:cNvPicPr/>
          <p:nvPr/>
        </p:nvPicPr>
        <p:blipFill>
          <a:blip r:embed="rId1"/>
          <a:stretch/>
        </p:blipFill>
        <p:spPr>
          <a:xfrm>
            <a:off x="4572000" y="1857240"/>
            <a:ext cx="4311720" cy="4743000"/>
          </a:xfrm>
          <a:prstGeom prst="rect">
            <a:avLst/>
          </a:prstGeom>
          <a:ln w="9525">
            <a:noFill/>
          </a:ln>
        </p:spPr>
      </p:pic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-357120" y="2857320"/>
            <a:ext cx="5000400" cy="2999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«Ребята,</a:t>
            </a:r>
            <a:br>
              <a:rPr sz="5400"/>
            </a:b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  давайте жить дружно!»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72680" y="6357960"/>
            <a:ext cx="304560" cy="22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delay="0" evt="onClick">
                    <p:tgtEl>
                      <p:spTgt spid="220"/>
                    </p:tgtEl>
                  </p:cond>
                </p:stCondLst>
                <p:childTnLst>
                  <p:par>
                    <p:cTn id="20" fill="hold">
                      <p:stCondLst>
                        <p:cond delay="0"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26075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21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005c00"/>
                </a:solidFill>
                <a:latin typeface="Arial"/>
              </a:rPr>
              <a:t>Тропинка волшебных слов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J0232891"/>
          <p:cNvPicPr/>
          <p:nvPr/>
        </p:nvPicPr>
        <p:blipFill>
          <a:blip r:embed="rId1"/>
          <a:stretch/>
        </p:blipFill>
        <p:spPr>
          <a:xfrm>
            <a:off x="398520" y="730800"/>
            <a:ext cx="2736360" cy="2490480"/>
          </a:xfrm>
          <a:prstGeom prst="rect">
            <a:avLst/>
          </a:prstGeom>
          <a:ln w="0">
            <a:noFill/>
          </a:ln>
        </p:spPr>
      </p:pic>
      <p:sp>
        <p:nvSpPr>
          <p:cNvPr id="224" name="WordArt 6"/>
          <p:cNvSpPr txBox="1"/>
          <p:nvPr/>
        </p:nvSpPr>
        <p:spPr>
          <a:xfrm rot="264000">
            <a:off x="453960" y="3208680"/>
            <a:ext cx="4048560" cy="9421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2017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920000"/>
                </a:solidFill>
                <a:latin typeface="Impact"/>
              </a:rPr>
              <a:t>"Доброе утро!"</a:t>
            </a:r>
            <a:endParaRPr b="0" lang="en-US" sz="3600" spc="-1" strike="noStrike">
              <a:ln w="0">
                <a:noFill/>
              </a:ln>
              <a:solidFill>
                <a:srgbClr val="920000"/>
              </a:solidFill>
              <a:latin typeface="Arial"/>
            </a:endParaRPr>
          </a:p>
        </p:txBody>
      </p:sp>
      <p:sp>
        <p:nvSpPr>
          <p:cNvPr id="225" name="WordArt 7"/>
          <p:cNvSpPr txBox="1"/>
          <p:nvPr/>
        </p:nvSpPr>
        <p:spPr>
          <a:xfrm rot="195600">
            <a:off x="5225400" y="1306800"/>
            <a:ext cx="3180960" cy="1193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19894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70c0"/>
                </a:solidFill>
                <a:latin typeface="Impact"/>
              </a:rPr>
              <a:t>"Добрый день!"</a:t>
            </a:r>
            <a:endParaRPr b="0" lang="en-US" sz="3600" spc="-1" strike="noStrike">
              <a:ln w="0">
                <a:noFill/>
              </a:ln>
              <a:solidFill>
                <a:srgbClr val="0070c0"/>
              </a:solidFill>
              <a:latin typeface="Arial"/>
            </a:endParaRPr>
          </a:p>
        </p:txBody>
      </p:sp>
      <p:sp>
        <p:nvSpPr>
          <p:cNvPr id="226" name="WordArt 8"/>
          <p:cNvSpPr txBox="1"/>
          <p:nvPr/>
        </p:nvSpPr>
        <p:spPr>
          <a:xfrm rot="297000">
            <a:off x="3429720" y="2314800"/>
            <a:ext cx="3266640" cy="11228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2019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"</a:t>
            </a: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Здравствуйте!"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9"/>
          <p:cNvSpPr txBox="1"/>
          <p:nvPr/>
        </p:nvSpPr>
        <p:spPr>
          <a:xfrm rot="423000">
            <a:off x="5798880" y="3538800"/>
            <a:ext cx="2808000" cy="11361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ln w="0">
                  <a:noFill/>
                </a:ln>
                <a:solidFill>
                  <a:srgbClr val="7030a0"/>
                </a:solidFill>
                <a:latin typeface="Impact"/>
              </a:rPr>
              <a:t>"Спасибо!"</a:t>
            </a:r>
            <a:endParaRPr b="0" lang="en-US" sz="3200" spc="-1" strike="noStrike">
              <a:ln w="0">
                <a:noFill/>
              </a:ln>
              <a:solidFill>
                <a:srgbClr val="7030a0"/>
              </a:solidFill>
              <a:latin typeface="Arial"/>
            </a:endParaRPr>
          </a:p>
        </p:txBody>
      </p:sp>
      <p:sp>
        <p:nvSpPr>
          <p:cNvPr id="228" name="WordArt 10"/>
          <p:cNvSpPr txBox="1"/>
          <p:nvPr/>
        </p:nvSpPr>
        <p:spPr>
          <a:xfrm rot="243600">
            <a:off x="37800" y="3899520"/>
            <a:ext cx="4897080" cy="12520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"</a:t>
            </a:r>
            <a:r>
              <a:rPr b="0" lang="ru-RU" sz="28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Прости, пожалуйста!"</a:t>
            </a:r>
            <a:endParaRPr b="0" lang="en-US" sz="2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11"/>
          <p:cNvSpPr txBox="1"/>
          <p:nvPr/>
        </p:nvSpPr>
        <p:spPr>
          <a:xfrm rot="374400">
            <a:off x="5438520" y="4762800"/>
            <a:ext cx="3057120" cy="1285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c00000"/>
                </a:solidFill>
                <a:latin typeface="Impact"/>
              </a:rPr>
              <a:t>"До свидания!</a:t>
            </a:r>
            <a:r>
              <a:rPr b="0" lang="ru-RU" sz="3600" spc="-1" strike="noStrike">
                <a:ln w="0">
                  <a:noFill/>
                </a:ln>
                <a:solidFill>
                  <a:srgbClr val="c00000"/>
                </a:solidFill>
                <a:latin typeface="Impact"/>
              </a:rPr>
              <a:t>"</a:t>
            </a:r>
            <a:endParaRPr b="0" lang="en-US" sz="3600" spc="-1" strike="noStrike">
              <a:ln w="0">
                <a:noFill/>
              </a:ln>
              <a:solidFill>
                <a:srgbClr val="c00000"/>
              </a:solidFill>
              <a:latin typeface="Arial"/>
            </a:endParaRPr>
          </a:p>
        </p:txBody>
      </p:sp>
      <p:sp>
        <p:nvSpPr>
          <p:cNvPr id="230" name="WordArt 12"/>
          <p:cNvSpPr txBox="1"/>
          <p:nvPr/>
        </p:nvSpPr>
        <p:spPr>
          <a:xfrm rot="255000">
            <a:off x="182160" y="5682240"/>
            <a:ext cx="4897080" cy="1285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70c0"/>
                </a:solidFill>
                <a:latin typeface="Impact"/>
              </a:rPr>
              <a:t>"Крепкого здоровья!"</a:t>
            </a:r>
            <a:endParaRPr b="0" lang="en-US" sz="3600" spc="-1" strike="noStrike">
              <a:ln w="0">
                <a:noFill/>
              </a:ln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31" name="Picture 5" descr="J0232891"/>
          <p:cNvPicPr/>
          <p:nvPr/>
        </p:nvPicPr>
        <p:blipFill>
          <a:blip r:embed="rId2"/>
          <a:stretch/>
        </p:blipFill>
        <p:spPr>
          <a:xfrm>
            <a:off x="428760" y="714240"/>
            <a:ext cx="2736360" cy="24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"Добавь волшебные слова</a:t>
            </a:r>
            <a:r>
              <a:rPr b="1" lang="ru-RU" sz="4800" spc="-1" strike="noStrike">
                <a:solidFill>
                  <a:srgbClr val="0070c0"/>
                </a:solidFill>
                <a:latin typeface="Monotype Corsiva"/>
              </a:rPr>
              <a:t>»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57120" y="1214280"/>
            <a:ext cx="8357760" cy="6400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7030a0"/>
              </a:buClr>
              <a:buFont typeface="Symbol" charset="2"/>
              <a:buChar char=""/>
            </a:pPr>
            <a:r>
              <a:rPr b="0" i="1" lang="ru-RU" sz="2200" spc="-1" strike="noStrike">
                <a:solidFill>
                  <a:srgbClr val="7030a0"/>
                </a:solidFill>
                <a:latin typeface="Arial"/>
              </a:rPr>
              <a:t>Растает даже ледяная глыба от слова теплого…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i="1" lang="ru-RU" sz="2200" spc="-1" strike="noStrike">
                <a:solidFill>
                  <a:srgbClr val="7030a0"/>
                </a:solidFill>
                <a:latin typeface="Arial"/>
              </a:rPr>
              <a:t>Спасибо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7030a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i="1" lang="ru-RU" sz="2200" spc="-1" strike="noStrike">
                <a:solidFill>
                  <a:srgbClr val="7030a0"/>
                </a:solidFill>
                <a:latin typeface="Arial"/>
              </a:rPr>
              <a:t>Зазеленеет старый пень, когда услышит…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i="1" lang="ru-RU" sz="2200" spc="-1" strike="noStrike">
                <a:solidFill>
                  <a:srgbClr val="7030a0"/>
                </a:solidFill>
                <a:latin typeface="Arial"/>
              </a:rPr>
              <a:t>Добрый день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7030a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i="1" lang="ru-RU" sz="2200" spc="-1" strike="noStrike">
                <a:solidFill>
                  <a:srgbClr val="7030a0"/>
                </a:solidFill>
                <a:latin typeface="Arial"/>
              </a:rPr>
              <a:t>Если больше есть не в силах, скажем маме мы…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i="1" lang="ru-RU" sz="2200" spc="-1" strike="noStrike">
                <a:solidFill>
                  <a:srgbClr val="7030a0"/>
                </a:solidFill>
                <a:latin typeface="Arial"/>
              </a:rPr>
              <a:t>Спасибо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7030a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i="1" lang="ru-RU" sz="2200" spc="-1" strike="noStrike">
                <a:solidFill>
                  <a:srgbClr val="7030a0"/>
                </a:solidFill>
                <a:latin typeface="Arial"/>
              </a:rPr>
              <a:t>Мальчик вежливый и развитый, говорит, встречаясь…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i="1" lang="ru-RU" sz="2200" spc="-1" strike="noStrike">
                <a:solidFill>
                  <a:srgbClr val="7030a0"/>
                </a:solidFill>
                <a:latin typeface="Arial"/>
              </a:rPr>
              <a:t>Здравствуйте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7030a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i="1" lang="ru-RU" sz="2200" spc="-1" strike="noStrike">
                <a:solidFill>
                  <a:srgbClr val="7030a0"/>
                </a:solidFill>
                <a:latin typeface="Arial"/>
              </a:rPr>
              <a:t>Когда нас бранят за шалости, говорим …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i="1" lang="ru-RU" sz="2200" spc="-1" strike="noStrike">
                <a:solidFill>
                  <a:srgbClr val="7030a0"/>
                </a:solidFill>
                <a:latin typeface="Arial"/>
              </a:rPr>
              <a:t>Простите, пожалуйста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7030a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i="1" lang="ru-RU" sz="2200" spc="-1" strike="noStrike">
                <a:solidFill>
                  <a:srgbClr val="7030a0"/>
                </a:solidFill>
                <a:latin typeface="Arial"/>
              </a:rPr>
              <a:t>И во Франции, и в Дании на прощанье говорят…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i="1" lang="ru-RU" sz="2200" spc="-1" strike="noStrike">
                <a:solidFill>
                  <a:srgbClr val="7030a0"/>
                </a:solidFill>
                <a:latin typeface="Arial"/>
              </a:rPr>
              <a:t>До свидания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920000"/>
                </a:solidFill>
                <a:latin typeface="Monotype Corsiva"/>
              </a:rPr>
              <a:t>Мостик добрых пословиц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735120" y="1720800"/>
            <a:ext cx="23238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250920" y="1341360"/>
            <a:ext cx="4035240" cy="587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250920" y="2071800"/>
            <a:ext cx="3963600" cy="637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одежда красит челове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250920" y="2857320"/>
            <a:ext cx="3963600" cy="6426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опись на доброе де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357120" y="3714840"/>
            <a:ext cx="3857400" cy="6472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е слово леч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285840" y="4643280"/>
            <a:ext cx="3857400" cy="6426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м добра н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214200" y="5643720"/>
            <a:ext cx="4142880" cy="7902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щи красоты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4929120" y="5643720"/>
            <a:ext cx="3785760" cy="7902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щи добр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4786200" y="4500720"/>
            <a:ext cx="3928680" cy="7855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худое само приспе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4786200" y="3643200"/>
            <a:ext cx="4000320" cy="7138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ом и правды м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4714920" y="2857320"/>
            <a:ext cx="4105080" cy="5713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злое калеч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8"/>
          <p:cNvSpPr/>
          <p:nvPr/>
        </p:nvSpPr>
        <p:spPr>
          <a:xfrm>
            <a:off x="4714920" y="2000160"/>
            <a:ext cx="4105080" cy="7092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ошке прия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"/>
          <p:cNvSpPr/>
          <p:nvPr/>
        </p:nvSpPr>
        <p:spPr>
          <a:xfrm>
            <a:off x="4714920" y="1341360"/>
            <a:ext cx="4105080" cy="587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го добрые д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16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16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17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18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9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19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19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1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1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2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3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4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4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4800" spc="-1" strike="noStrike">
                <a:solidFill>
                  <a:srgbClr val="c00000"/>
                </a:solidFill>
                <a:latin typeface="Arial"/>
              </a:rPr>
              <a:t>Цветик -семицветик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:\Users\Дом\Desktop\3462859_7.jpg"/>
          <p:cNvPicPr/>
          <p:nvPr/>
        </p:nvPicPr>
        <p:blipFill>
          <a:blip r:embed="rId1"/>
          <a:stretch/>
        </p:blipFill>
        <p:spPr>
          <a:xfrm>
            <a:off x="0" y="1285920"/>
            <a:ext cx="9143640" cy="557172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C:\Users\Дом\Desktop\img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1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1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1</Template>
  <TotalTime>628</TotalTime>
  <Application>LibreOffice/7.4.7.2$Linux_X86_64 LibreOffice_project/40$Build-2</Application>
  <AppVersion>15.0000</AppVersion>
  <Words>377</Words>
  <Paragraphs>7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7:10:47Z</dcterms:created>
  <dc:creator>Марина</dc:creator>
  <dc:description/>
  <dc:language>en-US</dc:language>
  <cp:lastModifiedBy>Дом</cp:lastModifiedBy>
  <dcterms:modified xsi:type="dcterms:W3CDTF">2021-11-21T18:34:39Z</dcterms:modified>
  <cp:revision>6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6</vt:r8>
  </property>
  <property fmtid="{D5CDD505-2E9C-101B-9397-08002B2CF9AE}" pid="3" name="PresentationFormat">
    <vt:lpwstr>Экран (4:3)</vt:lpwstr>
  </property>
  <property fmtid="{D5CDD505-2E9C-101B-9397-08002B2CF9AE}" pid="4" name="Slides">
    <vt:r8>18</vt:r8>
  </property>
</Properties>
</file>